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7522-7749-4EE6-B676-A550A228F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4CB9-DC6C-4D92-ADFC-1725D1C19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F5BF-6AE6-448C-932F-DBD5F9973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D047-681A-43F1-9813-E5A7C489F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111AD-855C-46B0-A8BE-D1C5FD66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676AE-E6C8-43A1-B4BB-31930E01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19A08-4A12-4490-B722-7911E657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162C3-392B-443B-9BED-B6C2F60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7F5E-5197-4F0B-B8B0-71CEB643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3BB44-E2FF-40D1-B5A6-CCCF875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1CD25-9EC6-48BD-B754-4F8B43F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5587-5928-4C71-801B-7443E9A72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59832-A485-4E5B-BAA6-9F2FD307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99886-354E-4B96-90C1-0AC9822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34939-2F67-4298-9855-A8D5689F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80F38-E149-4A63-85DC-F6A441A8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0D23-1C16-4649-95F9-AD9FBCAF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9647-0C9B-447E-89E8-1FFF0FD8C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9F8F-DC87-4B35-B4C4-7E0857EAB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51A4-3FB3-46C3-9900-92899DD84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8C06-37F4-4B0B-9CD2-E20DC80DE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2277-827C-4962-B16F-04DB2D0FF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0BB8-DC9F-4B32-9561-A2078BEF0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BEBF-8193-4F46-81F5-765428ACD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0BB5-4933-466D-A2E4-6FAF677B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4"/>
          <a:stretch/>
        </p:blipFill>
        <p:spPr>
          <a:xfrm>
            <a:off x="7658280" y="6324480"/>
            <a:ext cx="914400" cy="290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>
            <a:off x="-360" y="6553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610480" y="6553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41200" y="6535800"/>
            <a:ext cx="376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uthor, FAIR-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327640" y="6521400"/>
            <a:ext cx="326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828960" y="6540480"/>
            <a:ext cx="462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>
            <a:lum bright="6000"/>
          </a:blip>
          <a:srcRect l="0" t="2447" r="0" b="1224"/>
          <a:stretch/>
        </p:blipFill>
        <p:spPr>
          <a:xfrm>
            <a:off x="684360" y="1239840"/>
            <a:ext cx="7853040" cy="4995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2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952C-EEFA-4120-94C4-09A1A837F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4840" y="803160"/>
            <a:ext cx="787392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60680" y="2487240"/>
            <a:ext cx="5551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50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53:23Z</dcterms:created>
  <dc:creator>schwicke</dc:creator>
  <dc:description/>
  <dc:language>en-US</dc:language>
  <cp:lastModifiedBy>kowina</cp:lastModifiedBy>
  <cp:lastPrinted>2002-09-19T14:00:30Z</cp:lastPrinted>
  <dcterms:modified xsi:type="dcterms:W3CDTF">2007-11-15T14:04:54Z</dcterms:modified>
  <cp:revision>8</cp:revision>
  <dc:subject/>
  <dc:title>Welcom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05381157</vt:r8>
  </property>
  <property fmtid="{D5CDD505-2E9C-101B-9397-08002B2CF9AE}" pid="3" name="_AuthorEmail">
    <vt:lpwstr>M.Schwickert@gsi.de</vt:lpwstr>
  </property>
  <property fmtid="{D5CDD505-2E9C-101B-9397-08002B2CF9AE}" pid="4" name="_AuthorEmailDisplayName">
    <vt:lpwstr>Schwickert Marcus</vt:lpwstr>
  </property>
  <property fmtid="{D5CDD505-2E9C-101B-9397-08002B2CF9AE}" pid="5" name="_EmailSubject">
    <vt:lpwstr>Vorträge MiniTAC</vt:lpwstr>
  </property>
  <property fmtid="{D5CDD505-2E9C-101B-9397-08002B2CF9AE}" pid="6" name="_ReviewingToolsShownOnce">
    <vt:lpwstr/>
  </property>
</Properties>
</file>